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C01E-31C8-4B40-A3B5-E2A786DD8CCE}"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8192-69CB-4708-A1E6-FC90AE16C28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BB17-BD62-4A10-8B12-2C47FC59F72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data management plan needs to discuss how you are ensuring that your data aren’t inadvertently lost both during your project and for some period of time thereafter.</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0EEF-03DC-49DC-9B48-4063E322AD9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section of your plan dealing with data management during your project you need to describe how many copies of what parts of your data you are going to keep, when and how those copies will be created and where they will be loc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hrase “Lots of copies keeps stuff safe or LOCKSS” is the general rule used in the library community for making sure that digital materials aren’t corrupted.  There is even a system by that name that has been develop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cological community of DataONE the norm is to keep at least 3 copies of your data located “here, near, and way over there;”  where “near” means the computer you are working with the data on, be that a laptop or department server or whatever; “near” means some sort of local backup such as a thumb drive or departmental backup system, and “way over there” means some sort of geographically distributed system.  The point being to prevent a local disaster such as a flood or earthquake from causing you to lose your data.   There are plenty of commercial kinds of these systems available though if you are dealing with very large quantities of data, the costs may be very large – for moderate amounts of data, a popular system and the one I use is Dropbox.  I like it since automatically keeps all of my data synced between all of my machines and I can share individual folders with my colleagues.</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511D-00CC-4008-941E-886F4046796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data management plan also needs to describe which, of all the many and various kinds of data your project will create, need to be preserved for the longer term and for how long each kind of data needs to be available.  As a general rule, all of your data needs to be available for at least a few years after you publish your results to support replicatio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some kinds of data simply can’t be regenerated at any cost, so need to be available into the indefinite future.  I’m thinking here of things like Earth observations which can’t be duplicated without the invention of a time machin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ve described that, you also need to describe where those materials will be located.  Here again scale matters.  If your data is small enough that you will be able to publish your data along with your paper in a journal that has that capability, that may be good enough, especially if the data is only of interest to people in your discipline.  However, if you have a lot of data and/or the probable audience for your data is broad, spanning potentially multiple disciplines and access techniques other than a click through on reading your paper is needed, you may need to deposit your data in a repository that can handle both the scale of data and/or access mechanisms your data deserv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at case, you need to discuss which repository you are targeting, when the transfer to that repository will happen, and how you are going to deal with any requirements the repository has before they will let you deposit your data.  Obviously, discussing all of this with someone from that repository before submitting your proposal is probably a good idea.  The repository may be willing to write a letter of support indicating that they will support your data if your grant is fun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7556-670C-4DE8-BD45-3FB2C9E99F3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54880" y="299880"/>
            <a:ext cx="86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Backups, Archiving and Preservation Strateg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400" spc="-1" strike="noStrike">
                <a:solidFill>
                  <a:srgbClr val="000000"/>
                </a:solidFill>
                <a:latin typeface="Helvetica Neue Light"/>
              </a:rPr>
              <a:t>Backups, archiving and preservation strategies</a:t>
            </a:r>
            <a:endParaRPr b="0" lang="en-US" sz="44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ry data management plan needs to discuss how you are ensuring that your data aren’t inadvertently lost: </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uring your project</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 some period of time thereafter</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uring your projec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3800"/>
            <a:ext cx="11861640" cy="37717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gs to describ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many copies of what parts of your data are you going to kee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n will these copies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 will the copies be loc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ugges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3 copies of digital data located:</a:t>
            </a:r>
            <a:endParaRPr b="0" lang="en-US" sz="2800" spc="-1" strike="noStrike">
              <a:solidFill>
                <a:srgbClr val="606060"/>
              </a:solidFill>
              <a:latin typeface="Helvetica Neue"/>
            </a:endParaRPr>
          </a:p>
          <a:p>
            <a:pPr lvl="1" marL="660240" indent="-266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grpSp>
        <p:nvGrpSpPr>
          <p:cNvPr id="748" name="Group 11"/>
          <p:cNvGrpSpPr/>
          <p:nvPr/>
        </p:nvGrpSpPr>
        <p:grpSpPr>
          <a:xfrm>
            <a:off x="1244520" y="6095880"/>
            <a:ext cx="2362320" cy="3353040"/>
            <a:chOff x="1244520" y="6095880"/>
            <a:chExt cx="2362320" cy="3353040"/>
          </a:xfrm>
        </p:grpSpPr>
        <p:pic>
          <p:nvPicPr>
            <p:cNvPr id="749" name="Picture 1" descr="johnny_automatic_laptop.png"/>
            <p:cNvPicPr/>
            <p:nvPr/>
          </p:nvPicPr>
          <p:blipFill>
            <a:blip r:embed="rId1"/>
            <a:stretch/>
          </p:blipFill>
          <p:spPr>
            <a:xfrm>
              <a:off x="1244520" y="6095880"/>
              <a:ext cx="2362320" cy="2703960"/>
            </a:xfrm>
            <a:prstGeom prst="rect">
              <a:avLst/>
            </a:prstGeom>
            <a:ln w="0">
              <a:noFill/>
            </a:ln>
          </p:spPr>
        </p:pic>
        <p:sp>
          <p:nvSpPr>
            <p:cNvPr id="750" name="Content Placeholder 2"/>
            <p:cNvSpPr/>
            <p:nvPr/>
          </p:nvSpPr>
          <p:spPr>
            <a:xfrm>
              <a:off x="1930320" y="8839440"/>
              <a:ext cx="9907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ere</a:t>
              </a:r>
              <a:endParaRPr b="0" lang="en-US" sz="2800" spc="-1" strike="noStrike">
                <a:solidFill>
                  <a:srgbClr val="000000"/>
                </a:solidFill>
                <a:latin typeface="Helvetica Neue Light"/>
              </a:endParaRPr>
            </a:p>
          </p:txBody>
        </p:sp>
      </p:grpSp>
      <p:grpSp>
        <p:nvGrpSpPr>
          <p:cNvPr id="751" name="Group 9"/>
          <p:cNvGrpSpPr/>
          <p:nvPr/>
        </p:nvGrpSpPr>
        <p:grpSpPr>
          <a:xfrm>
            <a:off x="4773600" y="6248520"/>
            <a:ext cx="3381480" cy="3200400"/>
            <a:chOff x="4773600" y="6248520"/>
            <a:chExt cx="3381480" cy="3200400"/>
          </a:xfrm>
        </p:grpSpPr>
        <p:pic>
          <p:nvPicPr>
            <p:cNvPr id="752" name="Picture 4" descr="Usb_Flash.png"/>
            <p:cNvPicPr/>
            <p:nvPr/>
          </p:nvPicPr>
          <p:blipFill>
            <a:blip r:embed="rId2"/>
            <a:stretch/>
          </p:blipFill>
          <p:spPr>
            <a:xfrm>
              <a:off x="4773600" y="6248520"/>
              <a:ext cx="3381480" cy="2667240"/>
            </a:xfrm>
            <a:prstGeom prst="rect">
              <a:avLst/>
            </a:prstGeom>
            <a:ln w="0">
              <a:noFill/>
            </a:ln>
          </p:spPr>
        </p:pic>
        <p:sp>
          <p:nvSpPr>
            <p:cNvPr id="753" name="Content Placeholder 2"/>
            <p:cNvSpPr/>
            <p:nvPr/>
          </p:nvSpPr>
          <p:spPr>
            <a:xfrm>
              <a:off x="5968800" y="8839440"/>
              <a:ext cx="9907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ar</a:t>
              </a:r>
              <a:endParaRPr b="0" lang="en-US" sz="2800" spc="-1" strike="noStrike">
                <a:solidFill>
                  <a:srgbClr val="000000"/>
                </a:solidFill>
                <a:latin typeface="Helvetica Neue Light"/>
              </a:endParaRPr>
            </a:p>
          </p:txBody>
        </p:sp>
      </p:grpSp>
      <p:grpSp>
        <p:nvGrpSpPr>
          <p:cNvPr id="754" name="Group 7"/>
          <p:cNvGrpSpPr/>
          <p:nvPr/>
        </p:nvGrpSpPr>
        <p:grpSpPr>
          <a:xfrm>
            <a:off x="9321840" y="6324480"/>
            <a:ext cx="2819520" cy="3124440"/>
            <a:chOff x="9321840" y="6324480"/>
            <a:chExt cx="2819520" cy="3124440"/>
          </a:xfrm>
        </p:grpSpPr>
        <p:pic>
          <p:nvPicPr>
            <p:cNvPr id="755" name="Picture 5" descr="Nube_computo.png"/>
            <p:cNvPicPr/>
            <p:nvPr/>
          </p:nvPicPr>
          <p:blipFill>
            <a:blip r:embed="rId3"/>
            <a:stretch/>
          </p:blipFill>
          <p:spPr>
            <a:xfrm>
              <a:off x="9550440" y="6324480"/>
              <a:ext cx="2362320" cy="2362320"/>
            </a:xfrm>
            <a:prstGeom prst="rect">
              <a:avLst/>
            </a:prstGeom>
            <a:ln w="0">
              <a:noFill/>
            </a:ln>
          </p:spPr>
        </p:pic>
        <p:sp>
          <p:nvSpPr>
            <p:cNvPr id="756" name="Content Placeholder 2"/>
            <p:cNvSpPr/>
            <p:nvPr/>
          </p:nvSpPr>
          <p:spPr>
            <a:xfrm>
              <a:off x="9321840" y="8839440"/>
              <a:ext cx="28195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ay over there</a:t>
              </a:r>
              <a:endParaRPr b="0" lang="en-US" sz="2800" spc="-1" strike="noStrike">
                <a:solidFill>
                  <a:srgbClr val="000000"/>
                </a:solidFill>
                <a:latin typeface="Helvetica Neue Light"/>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or some time thereafter</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gs to describ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ich materials need to be available for the longer ter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 how lo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 will they be loc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a transfer to a repository is involved:</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ch repository?</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en will that happen?</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at requirements do they have for that to happen?</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Roles and responsibil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access, sharing, and re-use policies</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9T22:37:01Z</dcterms:modified>
  <cp:revision>46</cp:revision>
  <dc:subject/>
  <dc:title>ESIP Federation 101</dc:title>
</cp:coreProperties>
</file>